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F8B0-046A-4261-9954-217B62B0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5E02-2C1A-4F6F-8AE5-8D7EB04B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17AC-242A-404C-9BAB-B34C8C18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FD9-A2E9-45BE-97C3-B64AEB21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6E9E-A28C-43CA-B41F-CD187073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60B-9761-427A-B927-61830010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0AE-AB07-4700-A078-F8448930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916-D6A0-4A05-A9B0-E713AA68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535-E984-4F4E-A99F-99B245B9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813-5DEE-43A9-830D-20417236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02DB-9DD8-45E4-8349-68E2E215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A53-7A1A-486B-B763-BFA68234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98F5-BFCC-4F4D-8A4C-69C6FF166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pace Exploration Un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paceflight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Yuri Gagar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April 12, 1961 - Vostok 1 is launched by the Russians, carrying Cosmonaut Yuri A. Gargarin, the first man in sp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He orbits the Earth once.</a:t>
            </a:r>
            <a:br>
              <a:rPr sz="3200"/>
            </a:b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Cosmonaut literally means “Voyager of the Cosmos”</a:t>
            </a:r>
            <a:br>
              <a:rPr sz="3200"/>
            </a:b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Alan B. Shepp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May 5, 1961 - Mercury Freedom 7 carries Alan B. Sheppard, Jr., the first U.S. Astronaut into space, in a  15 minute suborbital fligh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The 7 original Mercury Astronaut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Alan Shepp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Virgil I. “Gus” Griss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John H. Glenn-1</a:t>
            </a:r>
            <a:r>
              <a:rPr b="1" i="1" lang="en-US" sz="2700" spc="-1" strike="noStrike" baseline="30000">
                <a:solidFill>
                  <a:srgbClr val="c00000"/>
                </a:solidFill>
                <a:latin typeface="Arial"/>
              </a:rPr>
              <a:t>st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 American to Orbit Ea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Walter Schir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Scott Carpen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Gordon “Gordo” Coop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*Deke Slayt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Astronaut means “Star Voyager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’s Manned Space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o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oshk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y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aly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.S. Manned Spa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m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pollo-Soy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ky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pace Shu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nstel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Chinese Invention of Fireworks  and Gunpow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Gunpowder and Fireworks invented in China 2 century B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Gunpowder, a mixture composing of: 75% Potassium Nitrate (KNO3), 15% Charcoal (Carbon), and 10% Sulfur, provides the  thrust for most fireworks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Robert Goddard-American Physic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vented the liquid fuel roc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Nell” Flew on March 16th, 19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Father of Modern Rocket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olid fuel:  must have air to combust.  Once started, must burn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Liquid fuel:  some fuels can react with no air.  Engines can be shut down and restar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WWII Germany and the V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German scientists led by Herman Oberth and Werner Von Braun picked Goddard’s brain to develop their own rockets capable of space trave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hey were to first to use Jet roc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itler forced this research group to develop a missile that could carry a warhead to Brit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1,100 V-2 rockets would impact England in World War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II: V-2 La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demo2.mpg" descr=""/>
          <p:cNvPicPr/>
          <p:nvPr/>
        </p:nvPicPr>
        <p:blipFill>
          <a:blip r:embed="rId1"/>
          <a:stretch/>
        </p:blipFill>
        <p:spPr>
          <a:xfrm>
            <a:off x="1143000" y="157644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Breaking the Sound Barr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hortly after the war, the U.S. leads the way in developing high performance air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ilots and Engineers notice terrible turbulence as planes approach 760 miles per hour-the speed of sound when most crashed due to lack of s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ell laboratories develops the first aircraft, technically a rocket plane” capable of breaking the sound barr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tober 14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, 1947  test pilot, Chuck Yeager, becomes the first person to exceed the sound barrier in the Bell X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ell X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Sput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Russian rocket engineer Sergei Korolev heads the post war spaceflight eff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tober 4, 1957 - Sputnik 1, the first man-made object to orbit the Earth, is launched by the U.S.S.R., and remains in orbit until January 4, 1958.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ovember 3, 1957 - Sputnik 2, carrying the dog Laika for 7 days in orbit, is launched by the U.S.S.R., and remains in orbit until April 13, 1958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Explorer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January 31, 1958 - Explorer 1, the first U.S. satellite in orbit, lifts off at Cape Canaveral using a modified ABMA-JPL Jupiter-C rocket. It carries a scientific experiment of James A. Van Allen, and discovers the Earth's radiation belt.</a:t>
            </a:r>
            <a:br>
              <a:rPr sz="2800"/>
            </a:b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March 5, 1958 - Explorer 2 is launched by a Jupiter-C rocket, and fails to reach orbit.</a:t>
            </a:r>
            <a:br>
              <a:rPr sz="2800"/>
            </a:br>
            <a:br>
              <a:rPr sz="2000"/>
            </a:b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4:14:48Z</dcterms:created>
  <dc:creator>Forsyth County School System</dc:creator>
  <dc:description/>
  <dc:language>en-US</dc:language>
  <cp:lastModifiedBy>Mrs. Tate</cp:lastModifiedBy>
  <dcterms:modified xsi:type="dcterms:W3CDTF">2013-03-16T18:34:56Z</dcterms:modified>
  <cp:revision>16</cp:revision>
  <dc:subject/>
  <dc:title>Space Exploration</dc:title>
</cp:coreProperties>
</file>