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DAD-732C-4DCB-86C8-553D1483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B7A-7ADC-43C6-B4A2-1834D54E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6E7-6EBA-4DE6-9648-D1234C0F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B35-AEC4-4A1C-AFCC-C89A0AB6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301-0373-46BA-A818-36D49C50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5B9-32B4-467E-B63D-FA0AB854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557-DFB9-44B1-ACD0-BD0BE8E2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EBD-49F2-4530-B89A-E6D363E7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EF2-216B-4859-A409-E0D2FABC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3F3-867B-4BEF-B42A-A92A73A8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B51-9741-468A-96FD-B10200C9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3DA-E8C3-4087-8755-1C10900E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D39-2099-4A0A-BAF9-1751A6784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ace Exploration Un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aceflight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Yuri Gag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April 12, 1961 - Vostok 1 is launched by the Russians, carrying Cosmonaut Yuri A. Gargarin, the first man in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He orbits the Earth once.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Cosmonaut literally means “Voyager of the Cosmos”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Alan B. Shepp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May 5, 1961 - Mercury Freedom 7 carries Alan B. Sheppard, Jr., the first U.S. Astronaut into space, in a  15 minute suborbital fli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The 7 original Mercury Astronau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lan Shepp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Virgil I. “Gus” Griss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John H. Glenn-1</a:t>
            </a:r>
            <a:r>
              <a:rPr b="1" i="1" lang="en-US" sz="2700" spc="-1" strike="noStrike" baseline="30000">
                <a:solidFill>
                  <a:srgbClr val="c00000"/>
                </a:solidFill>
                <a:latin typeface="Arial"/>
              </a:rPr>
              <a:t>st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 American to Orbit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Walter Schir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Scott Carpen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Gordon “Gordo” Coop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*Deke Slay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stronaut means “Star Voyager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’s Manned Spac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hk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aly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Manned Spa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-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y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ace Shu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stel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Chinese Invention of Fireworks  and Gunpow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unpowder and Fireworks invented in China 2 century B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unpowder, a mixture composing of: 75% Potassium Nitrate (KNO3), 15% Charcoal (Carbon), and 10% Sulfur, provides the  thrust for most firework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Robert Goddard-American Physic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vented the liquid fuel ro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ell” Flew on March 16th, 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ather of Modern Rocke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olid fuel:  must have air to combust.  Once started, must bu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iquid fuel:  some fuels can react with no air.  Engines can be shut down and re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WII Germany and th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rman scientists led by Herman Oberth and Werner Von Braun picked Goddard’s brain to develop their own rockets capable of space trave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ey were to first to use Jet ro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itler forced this research group to develop a missile that could carry a warhead to Br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,100 V-2 rockets would impact England in World War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II: V-2 La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demo2.mpg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Breaking the Sound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hortly after the war, the U.S. leads the way in developing high performance air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ilots and Engineers notice terrible turbulence as planes approach 760 miles per hour-the speed of sound when most crashed due to lack of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ell laboratories develops the first aircraft, technically a rocket plane” capable of breaking the sound barr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14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, 1947  test pilot, Chuck Yeager, becomes the first person to exceed the sound barrier in the Bell X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ll X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Sput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Russian rocket engineer Sergei Korolev heads the post war spaceflight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4, 1957 - Sputnik 1, the first man-made object to orbit the Earth, is launched by the U.S.S.R., and remains in orbit until January 4, 1958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vember 3, 1957 - Sputnik 2, carrying the dog Laika for 7 days in orbit, is launched by the U.S.S.R., and remains in orbit until April 13, 1958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Explore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January 31, 1958 - Explorer 1, the first U.S. satellite in orbit, lifts off at Cape Canaveral using a modified ABMA-JPL Jupiter-C rocket. It carries a scientific experiment of James A. Van Allen, and discovers the Earth's radiation belt.</a:t>
            </a: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rch 5, 1958 - Explorer 2 is launched by a Jupiter-C rocket, and fails to reach orbit.</a:t>
            </a:r>
            <a:br>
              <a:rPr sz="2800"/>
            </a:br>
            <a:br>
              <a:rPr sz="2000"/>
            </a:b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4:14:48Z</dcterms:created>
  <dc:creator>Forsyth County School System</dc:creator>
  <dc:description/>
  <dc:language>en-US</dc:language>
  <cp:lastModifiedBy>Mrs. Tate</cp:lastModifiedBy>
  <dcterms:modified xsi:type="dcterms:W3CDTF">2013-03-16T18:34:56Z</dcterms:modified>
  <cp:revision>16</cp:revision>
  <dc:subject/>
  <dc:title>Space Exploration</dc:title>
</cp:coreProperties>
</file>