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B737-6706-4F0D-ADD1-85AF1A919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D31D-1921-4FE6-8276-5EA74A72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82EF-8ABD-417E-B0DA-5CFFA3581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C302-4B20-4B5C-803B-2720E76A9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95A8-FDDB-4E08-BB6F-6AFBE1E6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A6A6-8E20-43D0-A707-13055D7F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BAFE-0F11-4954-A91C-95D14CD7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6AAC-422A-4E00-9201-89E2BAA8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52E7-4DD5-47F5-B8A0-F7728021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8067-7F7E-4BC0-AC52-EAA39416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528E-885C-4424-B1A0-57B80FF5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2245-5B97-4F26-90F3-2776E5D8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1B87-D6FC-4DE4-A722-D640BEA8D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pace Exploration Uni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paceflight Tim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Arial"/>
              </a:rPr>
              <a:t>Yuri Gagar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April 12, 1961 - Vostok 1 is launched by the Russians, carrying Cosmonaut Yuri A. Gargarin, the first man in spa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He orbits the Earth once.</a:t>
            </a:r>
            <a:br>
              <a:rPr sz="3200"/>
            </a:b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Cosmonaut literally means “Voyager of the Cosmos”</a:t>
            </a:r>
            <a:br>
              <a:rPr sz="3200"/>
            </a:b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Arial"/>
              </a:rPr>
              <a:t>Alan B. Shepp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May 5, 1961 - Mercury Freedom 7 carries Alan B. Sheppard, Jr., the first U.S. Astronaut into space, in a  15 minute suborbital fligh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The 7 original Mercury Astronaut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Alan Sheppar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Virgil I. “Gus” Grisso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John H. Glenn-1</a:t>
            </a:r>
            <a:r>
              <a:rPr b="1" i="1" lang="en-US" sz="2700" spc="-1" strike="noStrike" baseline="30000">
                <a:solidFill>
                  <a:srgbClr val="c00000"/>
                </a:solidFill>
                <a:latin typeface="Arial"/>
              </a:rPr>
              <a:t>st</a:t>
            </a: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 American to Orbit Ear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Walter Schirr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Scott Carpen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Gordon “Gordo” Coop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*Deke Slayt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Astronaut means “Star Voyager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ssia’s Manned Space Pro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ost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oshk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oyu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aly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.S. Manned Space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emi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pollo-Soyu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ky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pace Shut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onstel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Chinese Invention of Fireworks  and Gunpowd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Gunpowder and Fireworks invented in China 2 century B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Gunpowder, a mixture composing of: 75% Potassium Nitrate (KNO3), 15% Charcoal (Carbon), and 10% Sulfur, provides the  thrust for most fireworks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Robert Goddard-American Physic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Invented the liquid fuel rock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Nell” Flew on March 16th, 19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Father of Modern Rocketr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Solid fuel:  must have air to combust.  Once started, must burn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Liquid fuel:  some fuels can react with no air.  Engines can be shut down and restar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WWII Germany and the V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German scientists led by Herman Oberth and Werner Von Braun picked Goddard’s brain to develop their own rockets capable of space travel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They were to first to use Jet rock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Hitler forced this research group to develop a missile that could carry a warhead to Brita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1,100 V-2 rockets would impact England in World War 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WII: V-2 Lau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demo2.mpg" descr=""/>
          <p:cNvPicPr/>
          <p:nvPr/>
        </p:nvPicPr>
        <p:blipFill>
          <a:blip r:embed="rId1"/>
          <a:stretch/>
        </p:blipFill>
        <p:spPr>
          <a:xfrm>
            <a:off x="1143000" y="157644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Breaking the Sound Barr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hortly after the war, the U.S. leads the way in developing high performance aircra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ilots and Engineers notice terrible turbulence as planes approach 760 miles per hour-the speed of sound when most crashed due to lack of sta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ell laboratories develops the first aircraft, technically a rocket plane” capable of breaking the sound barri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October 14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, 1947  test pilot, Chuck Yeager, becomes the first person to exceed the sound barrier in the Bell X-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Bell X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Sputn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Russian rocket engineer Sergei Korolev heads the post war spaceflight effo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October 4, 1957 - Sputnik 1, the first man-made object to orbit the Earth, is launched by the U.S.S.R., and remains in orbit until January 4, 1958.</a:t>
            </a: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November 3, 1957 - Sputnik 2, carrying the dog Laika for 7 days in orbit, is launched by the U.S.S.R., and remains in orbit until April 13, 1958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Arial"/>
              </a:rPr>
              <a:t>Explorer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January 31, 1958 - Explorer 1, the first U.S. satellite in orbit, lifts off at Cape Canaveral using a modified ABMA-JPL Jupiter-C rocket. It carries a scientific experiment of James A. Van Allen, and discovers the Earth's radiation belt.</a:t>
            </a:r>
            <a:br>
              <a:rPr sz="2800"/>
            </a:b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March 5, 1958 - Explorer 2 is launched by a Jupiter-C rocket, and fails to reach orbit.</a:t>
            </a:r>
            <a:br>
              <a:rPr sz="2800"/>
            </a:br>
            <a:br>
              <a:rPr sz="2000"/>
            </a:br>
            <a:r>
              <a:rPr b="1" i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4:14:48Z</dcterms:created>
  <dc:creator>Forsyth County School System</dc:creator>
  <dc:description/>
  <dc:language>en-US</dc:language>
  <cp:lastModifiedBy>Mrs. Tate</cp:lastModifiedBy>
  <dcterms:modified xsi:type="dcterms:W3CDTF">2013-03-16T18:34:56Z</dcterms:modified>
  <cp:revision>16</cp:revision>
  <dc:subject/>
  <dc:title>Space Exploration</dc:title>
</cp:coreProperties>
</file>